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646AC-1099-4709-BC59-49FD344CB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44322-F93B-4BBE-95B0-415B310B6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F05ED-842E-4795-8441-A2BF34856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5A881-31F5-4299-876B-10B993B94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3FABB-9069-476F-9CC7-6B25DD4C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FFF8A-7EA2-44D1-A18C-C0988EF18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3251F-943B-4A57-8905-54EA8AAC6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243AC-C3F9-4A9A-8728-362144D85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11047-8AC2-410D-8AD7-0D3D9D90F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F44D7-4B6C-427D-A835-35AF12F28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10949-95B3-4C18-A88F-11EBF916A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DEE16-3579-4488-9AA9-4000A3E0D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37E1-9AF9-4662-9123-998DF2EF3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ulprogramm Nachhaltige Entwicklu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rfahrungen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nregunge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spiele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iner Mathar ( Nach Peter Pos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ktionspla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ktionsplan: Wer ist für die Durchführung bzw. Koordination des einzelnen Vorhabens verantwortlich und wer für die Evaluation? Welche zeitlichen Vorhaben wurden vereinbart und welche Ressourcen werden zur Verfügung gestellt? Diese Vereinbarung lassen sich in folgendem Schema übersichtlich darstell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rhab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rantwortlich für Durchführung bzw. Koordination Ressourc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eitliche Fixpunkt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rantwortlich für E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ulprogrammbausteine</a:t>
            </a:r>
            <a:br>
              <a:rPr sz="4000"/>
            </a:br>
            <a:r>
              <a:rPr b="0" lang="en-US" sz="4000" spc="-1" strike="noStrike">
                <a:solidFill>
                  <a:srgbClr val="000000"/>
                </a:solidFill>
                <a:latin typeface="Arial"/>
              </a:rPr>
              <a:t>Bitte beschränken</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leine Schulen sollten sich max zwei Elemente vorneh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roße Schulen sollten maximal 6-8 Elemente gleichzeitig durchfüh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s Programm besteht immer aus mehreren Säulen, die je einzeln keinen Anspruch auf Absolutheit hab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ausforderungen für </a:t>
            </a:r>
            <a:br>
              <a:rPr sz="4000"/>
            </a:br>
            <a:r>
              <a:rPr b="0" lang="en-US" sz="4000" spc="-1" strike="noStrike">
                <a:solidFill>
                  <a:srgbClr val="000000"/>
                </a:solidFill>
                <a:latin typeface="Arial"/>
              </a:rPr>
              <a:t>Schulen</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ulen stehen heute vor einer Vielzahl neuer Ansprüche. Zum einen stellen veränderte gesellschaftliche Rahmenbedingungen Schulen vor neue Herausforderungen, die man in folgende Fragen kleiden könn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können Schulen jungen Menschen die Erfahrung vermitteln, dass sie in der Gesellschaft wichtig sind und konstruktive Spuren hinterlassen können?</a:t>
            </a:r>
            <a:br>
              <a:rPr sz="1600"/>
            </a:b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können Schulen die Aufnahme von Wissen mit dessen Prüfung verbinden und damit eine wertschätzende und zugleich kritisch - prüfende Einstellung zum Wissen fördern?</a:t>
            </a:r>
            <a:br>
              <a:rPr sz="1600"/>
            </a:b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können Schulen zu einer gesellschaftlichen Entwicklung beitragen, in der die Aushandlung von Regelungen und Normen an Bedeutung gewinnt?</a:t>
            </a:r>
            <a:br>
              <a:rPr sz="1600"/>
            </a:b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können Schulen Situationen schaffen, in denen junge Menschen die Kontinuität sozialer Beziehungen erleben und erkennen, dass Zusammenarbeit besser ist als sie Instrumentalisierung anderer? (vgl. Posch 20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ausforderungen für </a:t>
            </a:r>
            <a:br>
              <a:rPr sz="4000"/>
            </a:br>
            <a:r>
              <a:rPr b="0" lang="en-US" sz="4000" spc="-1" strike="noStrike">
                <a:solidFill>
                  <a:srgbClr val="000000"/>
                </a:solidFill>
                <a:latin typeface="Arial"/>
              </a:rPr>
              <a:t>Schule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fessionelle Antworten auf diese Fragen erfordern Selbstvergewisserung und Reflexion über das eigene Handeln, Klarheit über die eigene Situation und über veränderliche Umfeldbedingungen und die Möglichkeit, darauf Einfluss zu nehme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m anderen erhalten Schulen im europaweiten Prozess zunehmender Autonomisierung in inhaltlicher, finanzieller und auch personeller Hinsicht die Möglichkeit, selbst Entwicklungsinitiativen zu ergreifen. Die Schulen gewinnen dadurch Entscheidungsspielräume, gleichzeitig wird von ihnen aber auch verlangt, dass sie Rechenschaft darüber ablegen, wie sie mit den Spielräumen umgehen und welche Qualität das Lehren und Lernen erreic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Verbindung von Selbstvergewisserung und Entwicklung im Rahmen von Schulprogrammen bietet sich als eine Möglichkeit an, diesen Ansprüchen zu begegnen und sich dabei etwas Gutes zu tu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ulprogramm als Instrumen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ulprogramme sind Dokumente von Schulen, in denen sie periodisch darüber Auskunft geben, auf welche Weise und mit welchem Erfolg sie sich um die Weiterentwicklung der Qualität ihrer Arbeit bemüh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ulprogramme sind bereits in mehreren europäischen Ländern eingeführt worden und werden nun auch in Österreich rechtlich verankert. Einer der wichtigsten Gründe dafür ist die zunehmende Autonomisierung des Bildungswese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sher kam der staatliche Einfluss auf die Schulen vor allem im Versuch zum Ausdruck, die pädagogische Praxis bis ins Detail zu regeln. Diese Vorgangsweise war praktikabel, solange und soweit die Verhältnisse an Schulen vergleichbar waren; wenn sie aber unterschiedlicher und komplexer werden, passen viele Regelungen nicht mehr auf jede Schule und es entsteht eine neue Situ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tt wir bisher für die Schulen Probleme zu lösen, muss nun die Problemlösekapazität der Schulen selbst erhöht we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ulprogramm als Instru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 erhalten in finanzieller, inhaltlicher (Lehrplan) und auch personeller Hinsicht die Möglichkeit, selbst Entwicklungsinitiativen zu ergreifen. Die Schulen gewinnen dadurch zwar Entscheidungsspielräume, gleichzeitig wird von ihnen aber auch verlangt, dass sie Rechenschaft darüber ablegen, wie sie mit den Spielräumen umgehen und was dabei herauskommt. Gesucht sind glaubwürdige Antworten auf die Frage: „Sind die Leistungen der Schulen das Geld wert, das für sie Aufgewendet wi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Schulprogramm wird das wichtigste von der Schule selbst entwickelte Dokument, mit dem sie die Rechenschaftspflicht sich selbst gegenüber und gegenüber der Öffentlichkeit erfüllen kan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weiterer wesentlicher Grund für die rasche Ausbreitung der Schulprogramm-Konzeption besteht in der dramatischen Veränderung der gesellschaftlichen Rahmenbedingungen, unter denen Unterricht heute erfo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ulprogramm /Schulprofil</a:t>
            </a:r>
            <a:br>
              <a:rPr sz="4000"/>
            </a:br>
            <a:r>
              <a:rPr b="0" lang="en-US" sz="4000" spc="-1" strike="noStrike">
                <a:solidFill>
                  <a:srgbClr val="000000"/>
                </a:solidFill>
                <a:latin typeface="Arial"/>
              </a:rPr>
              <a:t>Klärung der Begriffe</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s Leitbild einer Schu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einem Leitbild werden grundlegende Werthaltungen der Schule, ihre „Philosophie“ festgehalten. Es handelt sich um kurze, einprägsame Formulierungen, die der Öffentlichkeit einen ersten Eindruck von den zentralen Zielvorstellungen und Prinzipien vermitteln sollen, an denen sich die schulische Arbeit und das Zusammenleben in der Schule orientiert. Zumeist kommt das Leitbild im Folder oder Prospekt der Schule zum Ausdruck. An einer Schule sind z.B. Formulierungen wie „Wir fördern individuelle Begabungen und Interessen“, „Wo Schule auch Freude macht“, Schöpferische Vielfalt als Weg zur Persönlichkeitsbildung“ Elemente des Leitbilds der Schule. Wesentlich ist, dass das Leitbild im schulischen Alltag auf überprüfbare Weise in den Angeboten der Schule (Schulprofil) und im Schulprogramm zum Ausdruck komm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ulprofi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wichtigste Inhalt eines Schulprofils sind die fachlichen und überfachlichen Angebote, die von der Schule bereitgestellt werden. Besondere Beachtung verdienen dabei Besonderheiten der Schule (z.B. spezielle Dienstleistungen und Unterrichtsangebote), die sie von anderen Schulen unterscheiden. Das Schulprofil kommt oft in der Homepage der Schule oder in ausführlichen Prospekten zum Ausdruck. Es enthält neben dem Leitbild alle Informationen über die Schule, die erforderlich sind, um sich ein Bild von der Schule zu machen. Dazu gehören auch Informationen über Lage der Schule das Schulgebäude und die Ausstattung der Schule, statistische Angaben (z.B. über Größe der Schule), historische Daten und die an der Schule erzielbaren Abschlüsse bzw. Berechtig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ulprogramm</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lprogramme sind </a:t>
            </a:r>
            <a:r>
              <a:rPr b="1" i="1" lang="en-US" sz="1600" spc="-1" strike="noStrike">
                <a:solidFill>
                  <a:srgbClr val="000000"/>
                </a:solidFill>
                <a:latin typeface="Arial"/>
              </a:rPr>
              <a:t>Instrumente der Schulentwicklung</a:t>
            </a:r>
            <a:r>
              <a:rPr b="0" lang="en-US" sz="1600" spc="-1" strike="noStrike">
                <a:solidFill>
                  <a:srgbClr val="000000"/>
                </a:solidFill>
                <a:latin typeface="Arial"/>
              </a:rPr>
              <a:t> und dienen dazu, in jeder Schule eine Dynamik kontinuierlicher Weiterentwicklung und Qualitätsverbesserung aufrecht zu erhalten und zu fördern. Schulprogramme sind die Antwort der Schule auf die wachsende Nachfrage in der Gesellschaft nach kontinuierlicher Entwicklung und Evaluation in fünf großen Bereichen: Unterricht, Schulklima, Schulmanagement, Außenbeziehungen und Personalentwicklung. Sie konzentrieren sich jeweils auf ausgewählte wichtige Themenbereiche, in denen Weiterentwicklungsbedarf besteht. Zentraler Kern des Schulprogramms ist der Entwicklungsplan, der ausgewählte wichtige Themenbereiche umfasst, in denen Entwicklungsbedarf besteht. Zu jedem dieser Themenbereiche werden Entwicklungsziele definiert, rückblickend wird im Rahmen einer Selbstevaluation Auskunft über die Qualität der Arbeit des vergangenen Jahres gegeben und vorausblickend werden Vorhaben samt Erfolgskriterien und Evaluationsmethoden für das kommende Jahr vereinbart sowie ein detaillierter Aktionsplan beschlosse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weiters Element des Schulprogramms ist das Leitbild der Schule, das den Entwicklungszielen Legitimität verleiht. Die Entwicklungsziele sind auf drei bis fünf Jahre angelegt. Das Schulprogramm selbst wird jährlich veröffentlicht und zeigt den jeweils erreichten Entwicklungsstand. Der Umfang eines Schulprogramms beträgt fünf bis fünfzehn Seiten (je nach Größe der Schule und Zahl der ausgewählten Entwicklungszie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ulprogramm als Entwicklungsinstrumen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wicklungsziel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Entwicklungsziele werden im Hinblick auf das Thema angestrebt?</a:t>
            </a:r>
            <a:br>
              <a:rPr sz="1800"/>
            </a:br>
            <a:r>
              <a:rPr b="0" lang="en-US" sz="1800" spc="-1" strike="noStrike">
                <a:solidFill>
                  <a:srgbClr val="000000"/>
                </a:solidFill>
                <a:latin typeface="Arial"/>
              </a:rPr>
              <a:t>Was soll erreicht werde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ückblick auf das vergangene Jahr:</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haben wir bereits unternomme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haben wir erreicht? Was haben wir nicht erreicht? Welche Nebenwirkungen sind aufgetreten? (Jeweils mit Belegen bzw. Hinweisen auf Beleg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 erklären wir uns das, was wir herausgefunden habe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 welchen (alten oder neuen) Herausforderungen stehen wir?</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rausblick auf das kommende Jahr</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haben: Welche Vorhaben werden in Angriff genommen, um den Entwicklungszielen näher zu kommen?</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s Vorhaben: Was wäre ein Erfolg? (Erfolgskriterien bzw. Indikatoren)</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s Erfolgskriterium: Wie (mit welchen Methoden) soll der Erfolg festgestellt werden? (Evalu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07:37:38Z</dcterms:created>
  <dc:creator>mathar</dc:creator>
  <dc:description/>
  <dc:language>en-US</dc:language>
  <cp:lastModifiedBy>mathar</cp:lastModifiedBy>
  <dcterms:modified xsi:type="dcterms:W3CDTF">2004-03-01T08:59:03Z</dcterms:modified>
  <cp:revision>4</cp:revision>
  <dc:subject/>
  <dc:title>Schulprogramm Nachhaltige Entwicklu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1377026</vt:r8>
  </property>
  <property fmtid="{D5CDD505-2E9C-101B-9397-08002B2CF9AE}" pid="3" name="_AuthorEmail">
    <vt:lpwstr>r.mathar@help.hessen.de</vt:lpwstr>
  </property>
  <property fmtid="{D5CDD505-2E9C-101B-9397-08002B2CF9AE}" pid="4" name="_AuthorEmailDisplayName">
    <vt:lpwstr>Mathar,Reiner</vt:lpwstr>
  </property>
  <property fmtid="{D5CDD505-2E9C-101B-9397-08002B2CF9AE}" pid="5" name="_EmailSubject">
    <vt:lpwstr>Materialien für die BLK 21-Website</vt:lpwstr>
  </property>
</Properties>
</file>