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399D0-1878-4F39-AE96-DF83A9AE7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E6E6-0B3E-4E27-BBC5-5BAF3A321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48BE8-0E62-49F4-B9B6-419E5E9BD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0CDEF-0E24-4822-B20D-FA9C608D8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1CA1-E9E6-4361-9525-789DC7EB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A1BF-AA22-44D3-B35F-7086150D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C6A8-268D-4BC4-BA48-8844EE04E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82D33-EC1F-447C-A772-9FC4FCD8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27F6C-66EE-4C7A-BB77-8BD87760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DDA45-18B0-46A0-921B-48903AD4C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CA31-08C4-444F-9A77-AC296990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BED1-3722-4F92-887C-22B9A2DBB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949C-35A4-4B1A-A183-400F0D02F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762120" y="3886200"/>
            <a:ext cx="73152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standsaufnahme des Ist-Zustandes bzw. der Problemfelder,</a:t>
            </a:r>
            <a:r>
              <a:rPr b="0" lang="en-US" sz="3200" spc="-1" strike="noStrike">
                <a:solidFill>
                  <a:srgbClr val="000000"/>
                </a:solidFill>
                <a:latin typeface="Arial"/>
              </a:rPr>
              <a:t> Fragen der Akzeptanz, Durchführung, Evaluieru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ahmenbedingungen / Voraussetzu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a:solidFill>
                  <a:srgbClr val="000000"/>
                </a:solidFill>
                <a:latin typeface="Arial"/>
                <a:ea typeface="Arial"/>
              </a:rPr>
              <a:t>Unterricht kooperativ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ständige und genaue Absprachen erforderlich mi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Verbindlichkeiten</a:t>
            </a:r>
            <a:r>
              <a:rPr b="0" lang="en-US" sz="2800" spc="-1" strike="noStrike">
                <a:solidFill>
                  <a:srgbClr val="000000"/>
                </a:solidFill>
                <a:latin typeface="Arial"/>
                <a:ea typeface="Arial"/>
              </a:rPr>
              <a:t>, z.B. in Bezug au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chulorganisatorische Vorkehrungen (Terminpläne, evtl. Flexibilisierung im Stundenpla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mfang und Intensität des jeweiligen Unterrichtsprojek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Arial"/>
              </a:rPr>
              <a:t>Verbindlichkei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Arial"/>
              </a:rPr>
              <a:t>Art und Umfang der zu erwartenden Leistungen und deren Bewertu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 </a:t>
            </a:r>
            <a:r>
              <a:rPr b="0" lang="de-DE" sz="3200" spc="-1" strike="noStrike">
                <a:solidFill>
                  <a:srgbClr val="000000"/>
                </a:solidFill>
                <a:latin typeface="Times New Roman"/>
                <a:ea typeface="Arial"/>
              </a:rPr>
              <a:t>rechtzeitige Information von SchülerInnen und Erziehungsberechtigt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Arial"/>
              </a:rPr>
              <a:t>Verbindlichkei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Möglichkeit für interessierte KollegInnen zur schulinternen Fortbildung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Kollegial wechselseitiges Feedback zur persönlichen Unterrichtsarbeit (sofern erwünsch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ichti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chulleitung muss fachübergreifendes Arbeiten fördern und unterstützen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stitutionalisierung des fachübergreifenden Arbeitens </a:t>
            </a:r>
            <a:r>
              <a:rPr b="1" lang="en-US" sz="3200" spc="-1" strike="noStrike">
                <a:solidFill>
                  <a:srgbClr val="000000"/>
                </a:solidFill>
                <a:latin typeface="Arial"/>
                <a:ea typeface="Arial"/>
              </a:rPr>
              <a:t>als Teil der Schulentwicklung</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stöße für die konkrete Umsetzu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Arial"/>
                <a:ea typeface="Arial"/>
              </a:rPr>
              <a:t>Bestandsaufnahme“ der Lehrpläne der verschiedenen Fächer für jede Klassenstufe </a:t>
            </a:r>
            <a:r>
              <a:rPr b="0" lang="en-US" sz="2800" spc="-1" strike="noStrike">
                <a:solidFill>
                  <a:srgbClr val="000000"/>
                </a:solidFill>
                <a:latin typeface="Wingdings"/>
                <a:ea typeface="Wingdings"/>
              </a:rPr>
              <a:t></a:t>
            </a:r>
            <a:r>
              <a:rPr b="0" lang="en-US" sz="2800" spc="-1" strike="noStrike">
                <a:solidFill>
                  <a:srgbClr val="000000"/>
                </a:solidFill>
                <a:latin typeface="Arial"/>
                <a:ea typeface="Arial"/>
              </a:rPr>
              <a:t> Möglichkeiten fächerübergreifenden Unterrichts, u. U. durch Parallelisierung der Lehrpläne (da, wo die Lehrpläne Spielräume geben!) und Formulierung von konkreten Themenvorschlägen unter Angabe der daran beteiligten Fäc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Visualisierung der aufgedeckten Möglichkeiten für fächerübergreifendes Unterrichten in Form von „Themenkärtchen“, die, auf einer Hafttafel nach Klassen und Jahrgangsstufen angeordnet, allen interessierten KollegInnen jederzeit zugänglich sind </a:t>
            </a:r>
            <a:r>
              <a:rPr b="0" lang="de-DE" sz="2800" spc="-1" strike="noStrike">
                <a:solidFill>
                  <a:srgbClr val="000000"/>
                </a:solidFill>
                <a:latin typeface="Wingdings"/>
                <a:ea typeface="Wingdings"/>
              </a:rPr>
              <a:t></a:t>
            </a:r>
            <a:r>
              <a:rPr b="0" lang="de-DE" sz="2800" spc="-1" strike="noStrike">
                <a:solidFill>
                  <a:srgbClr val="000000"/>
                </a:solidFill>
                <a:latin typeface="Arial"/>
                <a:ea typeface="Arial"/>
              </a:rPr>
              <a:t> „flexible“ Form der Präsentation erleichtert kontinuierlichen Aus- und Umbau des Themenkatalogs aufgrund gemachter Erfahrungen oder neuer Ideen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Themenvorschläge werden in eine koordinierende Konferenz zwischen allen in der jeweiligen Klasse unterrichtenden LehrerInnen zu Beginn des Schuljahres diskutiert und abgestimm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zunächst Beschränkung auf 1 in den Unterricht integriertes Projekt pro Schulhalbjahr und Klasse, darüberhinaus evtl. Festsetzung einer regelmäßigen Projektwoche als größeres Forum fächerübergreifenden Arbeiten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Schaffung einer größeren Methodenkompetenz und Akzeptanz für neue Arbeitsformen bei den SchülerInnen, z.B. selbständiges Erstellen einer Facharbeit, Entwicklung von Techniken der Informationsbeschaffung-, verarbeitung und -präsentation, Erlernen von Kooperation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Sammlung und Bereitstellung von Materialien zu durchgeführten Projekten oder Arbeiten in einer Mappe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a:t>
            </a:r>
            <a:r>
              <a:rPr b="0" lang="de-DE" sz="2800" spc="-1" strike="noStrike">
                <a:solidFill>
                  <a:srgbClr val="000000"/>
                </a:solidFill>
                <a:latin typeface="Arial"/>
                <a:ea typeface="Arial"/>
              </a:rPr>
              <a:t>Fundus“ praxiserprobter Modelle könnte und sollte zu einer Verbesserung der Akzeptanz bei allen KollegInnen führen. </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Arial"/>
              </a:rPr>
              <a:t>Evaluationsvorschlag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Nach einem angemessenen Zeitraum (von z.B. 2 Jahren) sollte durch den kritischen Vergleich von heute konstatiertem Ist-Zustand und dem künftig Erreichten festgestellt werden, ob die eingeleiteten Maßnahmen dazu beitragen konnten, den Stellenwert des fächerübergreifenden und fächerverbindenen Unterrichts zu erhöh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oblem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icht aufeinander abgestimmte Lehrpläne; Fehlen einer Gesamtübersicht der Lehrpläne für jede Klassenstuf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ehlende Koordination und Organisation fächerübergreifenden Unterrichts (keine Absprac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46" name=""/>
          <p:cNvSpPr/>
          <p:nvPr/>
        </p:nvSpPr>
        <p:spPr>
          <a:xfrm>
            <a:off x="533520" y="20257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Arial"/>
              </a:rPr>
              <a:t>Problemsitu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 </a:t>
            </a:r>
            <a:r>
              <a:rPr b="0" lang="de-DE" sz="2800" spc="-1" strike="noStrike">
                <a:solidFill>
                  <a:srgbClr val="000000"/>
                </a:solidFill>
                <a:latin typeface="Arial"/>
                <a:ea typeface="Arial"/>
              </a:rPr>
              <a:t>Angst vor Mehraufwand (zeitlich und organisatorisch) und vor eventuellen Probleme bei der Leistungsbewertung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 </a:t>
            </a:r>
            <a:r>
              <a:rPr b="0" lang="de-DE" sz="2800" spc="-1" strike="noStrike">
                <a:solidFill>
                  <a:srgbClr val="000000"/>
                </a:solidFill>
                <a:latin typeface="Arial"/>
                <a:ea typeface="Arial"/>
              </a:rPr>
              <a:t>Wenige Fortbildungsangebote für KollegInnen zum fachübergreifenden Unterric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48" name=""/>
          <p:cNvSpPr/>
          <p:nvPr/>
        </p:nvSpPr>
        <p:spPr>
          <a:xfrm>
            <a:off x="609480" y="2438280"/>
            <a:ext cx="784872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Warum fächerübergreifendes Arbeiten?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 </a:t>
            </a:r>
            <a:r>
              <a:rPr b="1" i="1" lang="en-US" sz="2600" spc="-1" strike="noStrike">
                <a:solidFill>
                  <a:srgbClr val="000000"/>
                </a:solidFill>
                <a:latin typeface="Arial"/>
                <a:ea typeface="Arial"/>
              </a:rPr>
              <a:t>sachlogischer Aspekt:</a:t>
            </a:r>
            <a:r>
              <a:rPr b="1" lang="en-US" sz="2600" spc="-1" strike="noStrike">
                <a:solidFill>
                  <a:srgbClr val="000000"/>
                </a:solidFill>
                <a:latin typeface="Arial"/>
                <a:ea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Die Wirklichkeit ist nicht fachlich organisier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Die Realität ist nicht nach Fächern geglieder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ichti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achliches Lernen darf nicht gegen fächerübergreifendes Lernen ausgespielt werd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s fachspezifische Faktenwissen bildet den materiellen Unterbau für jede Form der fächerübergreifenden Arbei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lernpsychologischer Aspekt:</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lligentes Wissen ist kein isoliertes Wissen, sondern sinnvoll geordnet als vernetztes Wissen die Voraussetzung für vernetztes Den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e thematisch sinnvolle Aufteilung des Ganzen muss insbesondere auch vor dem Aspekt der Unterrichtsökonomie positiv beurteilt werd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54"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ea typeface="Arial"/>
              </a:rPr>
              <a:t>pädagogischer Aspekt:</a:t>
            </a:r>
            <a:r>
              <a:rPr b="1" lang="de-DE"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Durch die thematische Vielfalt der Einzelaspekte können SchülerInnen mit ganz unterschiedlichen Fertigkeiten und Fähigkeiten (im kognitiven, affektiven, sozialen Bereich) integriert werden in den gemeinsamen Erarbeitungsprozess und damit etwas Sinnvolles beitragen zum Ganze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Arial"/>
              </a:rPr>
              <a:t>Für SchülerInnen Gelegenheit, die LehrerInnen als Team zu erleben, geeint durch das gemeinsame Unterrichtsinteresse und Erhöhung der Identifikation mit Schule durch gemeinsames Arbeiten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achübergreifendes Arbeite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gesellschaftlicher Aspekt:</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ächerübergreifendes Arbeiten schafft Teamfähigkeit als Leitfähigkeit für verantwortliches gemeinsames Handeln, denn Lernen und Arbeiten in vernetzten Bezügen schafft Vertrauen, Solidarität und Verantwortung und fördert so bei Schülern (und Lehrern) die Motivation für gesellschaftliches Engagemen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0:17:51Z</dcterms:created>
  <dc:creator>Sander</dc:creator>
  <dc:description/>
  <dc:language>en-US</dc:language>
  <cp:lastModifiedBy>Projektraum1</cp:lastModifiedBy>
  <dcterms:modified xsi:type="dcterms:W3CDTF">2004-03-18T09:58:33Z</dcterms:modified>
  <cp:revision>52</cp:revision>
  <dc:subject/>
  <dc:title>Fachübergreifendes Arbeiten</dc:title>
</cp:coreProperties>
</file>