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01E-189A-42A5-B3B0-9362E15C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8D6-8804-4698-B522-96E9FEA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2B0-3B71-4010-9A11-602A5AE6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EDC-DC12-4AFE-8C6B-C8E11D4C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991-15C4-4965-B810-911FE26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6F4-0421-41B5-A7D3-4455A31C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DE6-2840-49A2-AB84-69B459E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4F0-7EB2-449C-89D0-6D26408B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1F0-222E-4938-AE8B-DEBB8C2C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327-839F-437B-A529-08938C0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29F-CF28-476C-8C23-6826DE1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27A-8CBE-4D09-8D6E-9AB38F8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B71-0A11-454A-BB3D-A0B5F8ECE4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447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ldung für eine nachhaltige Entwickl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zipation –  Globalität –  Agenda 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Ökologie – Ökonomie – Soziales 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32004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Gesundheit</a:t>
            </a:r>
            <a:br>
              <a:rPr sz="3600"/>
            </a:b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Themenschwerpunkt: 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Bekleidung</a:t>
            </a:r>
            <a:r>
              <a:rPr b="0" lang="de-DE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, </a:t>
            </a:r>
            <a:br>
              <a:rPr sz="3600"/>
            </a:br>
            <a:r>
              <a:rPr b="1" lang="de-DE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z. B.:</a:t>
            </a:r>
            <a:r>
              <a:rPr b="1" i="1" lang="de-DE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 Jeans 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58672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achübergreifendes Projek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95280"/>
            <a:ext cx="7543800" cy="412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ldungsstanda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n Weg von der Baumwollproduktion über das ladenneue Produkt und seine (Trage-)Eigenschaften bis zur Entsorgung (Deponie/Verbrennung/Dritte Welt) nachvollziehen könn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de-DE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extilproduktion in Billiglohnländern kennen lerne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menschliche Arbeit in Billiglohnlän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iedriglöhne, fehlende soziale Absich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fährdung von Kindergesundhei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rgieverschwendung durch lange Transportwege (Ökolog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Erdkunde, Sozialkunde, Religion/Ethi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häden für  Gesundheit und Umwelt bei  der Baumwollproduktion kennen ler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ut- und Atemwegserkranku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fährdung von Kindergesundhe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laverei in den Südstaaten der U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strocknen des Arals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fällige Monokulturen, Einsatz von Pestizi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Textilwesen, Erdkunde, Geschichte / Sozialkunde, Englisch, Relig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92504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Öko-Audit bei Versandhäusern 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z. B. OTTO) kennen lern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insicht in Betriebstrukturen und –strateg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weltbelastung durch Produktion und Vertrieb (Ökologie)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xtil-Audit an der eigenen 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Erdkunde, Sozialkun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geeigenschaften einschätzen kön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srüstung, Veredelung, Faser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fbau einer Baumwollf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utverträglichkeit, Allergien, Rückstä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turfaser contra Synthesef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lastung durch Fär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rbstoffindustrie (Exkursio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Öko-Wäsche, Kennzeich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&gt;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ve mit örtlichen Textilwarengeschä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ologie, Textilwesen, Chemie, Kunst, Mus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Kleidung als (Status-)symbol  erkennen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zialprestige“ durch Markenklei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äre Belastung durch hohe Ausg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eanskleidung als Ausdruck von Lifestyle, Uniform und Uni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leidung in anderen Kulturen/Relig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s und Mode als (falsche) Vorbilder (Magersucht, Bulim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ozialkunde, Religion/Ethik, Deutsch, Bio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e Altkleiderverwertung und –entsorgung ken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erstörung der Textilkultur und –produktion in der „Dritten Welt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hand, Umweltbelastung bei Entsor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Erdkunde, Religion/Ethi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57:57Z</dcterms:created>
  <dc:creator>Himmels, Lothar</dc:creator>
  <dc:description/>
  <dc:language>en-US</dc:language>
  <cp:lastModifiedBy>Sander</cp:lastModifiedBy>
  <dcterms:modified xsi:type="dcterms:W3CDTF">2004-03-15T14:16:47Z</dcterms:modified>
  <cp:revision>49</cp:revision>
  <dc:subject/>
  <dc:title>Partizipation Globalität Agenda Nachhaltigkeit Ökologie Ökonomie Soziales Projekt Fachübergreifend  Gesundheit Themenschwerpunkt: Bekleidung,  z. B.: Jeans on </dc:title>
</cp:coreProperties>
</file>