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A15B-3633-4E18-8982-FB535193F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C446-B5B5-4F36-AEAA-F6B154FE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ECBB-7E99-4A21-8D65-6AD1C47C5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61BB-5658-46BC-8E90-F8702A536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C271-F405-4E62-BC27-EA2865C1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6517-1F9B-4032-83C6-C98FDA19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9F9B-66F8-48D5-B299-F6EABE73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4472-F3E8-4162-90A0-8D55A0BA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A247-09C6-4099-B637-8056EF09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C31F-9C2B-406A-949B-E368081A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22D9-3303-4E3B-9AA9-31EE55A0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6136-16A8-4C2E-8F68-373C30AD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3C29-6122-4F17-AFCA-6916C2B4A52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219320"/>
            <a:ext cx="1663560" cy="15224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nisterium für Bildung, Frauen und Jug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934320" y="1219320"/>
            <a:ext cx="1730160" cy="15224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nisterium für Umwelt 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300320"/>
            <a:ext cx="2246040" cy="6048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hulaufsic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TR / KO / N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3886200"/>
            <a:ext cx="3124440" cy="609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Kommission für Umwelt- und Nachhaltigkeitserziehu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044880"/>
            <a:ext cx="2514600" cy="7254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ehrerfortbild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IFB , PZ, 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95480" y="2743200"/>
            <a:ext cx="3124440" cy="968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Koordinierungsste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z.B. am Pädagog. Zen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4114800"/>
            <a:ext cx="2259000" cy="19177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chulen mi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chwerpunkt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mwe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esundhe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genda 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nda-Part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rtsch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24480" y="3962520"/>
            <a:ext cx="2286000" cy="9144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genda-21-Kommun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2971800"/>
            <a:ext cx="2612880" cy="7254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xterne Part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Betriebe, SCHUR, 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5480" y="2057400"/>
            <a:ext cx="3110040" cy="725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chberatung für schulische Nachhaltigkeitserzieh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5560"/>
            <a:ext cx="8229600" cy="11286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enda 2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chhaltigkeit in den Schulen von Rheinland-Pfal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05720" y="6172200"/>
            <a:ext cx="2209680" cy="380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ntwurf: Winfried Sa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ärz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5715000"/>
            <a:ext cx="3562560" cy="7254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issenschaftliche Beglei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z.B. Universität Tr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f. Dr. B. Ha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235080"/>
            <a:ext cx="360" cy="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-46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235080"/>
            <a:ext cx="360" cy="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-46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2350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67280" y="129528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1600200"/>
            <a:ext cx="762120" cy="380880"/>
          </a:xfrm>
          <a:prstGeom prst="leftArrow">
            <a:avLst>
              <a:gd name="adj1" fmla="val 50000"/>
              <a:gd name="adj2" fmla="val 5002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2514600"/>
            <a:ext cx="685800" cy="685800"/>
          </a:xfrm>
          <a:custGeom>
            <a:avLst/>
            <a:gdLst>
              <a:gd name="textAreaLeft" fmla="*/ 160920 w 685800"/>
              <a:gd name="textAreaRight" fmla="*/ 524160 w 685800"/>
              <a:gd name="textAreaTop" fmla="*/ 80640 h 685800"/>
              <a:gd name="textAreaBottom" fmla="*/ 430200 h 6858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e22d0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9520" y="4572000"/>
            <a:ext cx="3200400" cy="10782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ehrerausbild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entren für Lehrerbild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an Universität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5181480"/>
            <a:ext cx="2514600" cy="7030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andeszentrale für Gesundheitsförderung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nder</cp:lastModifiedBy>
  <dcterms:modified xsi:type="dcterms:W3CDTF">2004-03-15T14:18:18Z</dcterms:modified>
  <cp:revision>55</cp:revision>
  <dc:subject/>
  <dc:title>PowerPoint Presentation</dc:title>
</cp:coreProperties>
</file>