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4EEB8-94A4-4BAA-9BC3-E90ECA582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7DD86-DDED-418F-A4E7-3C47D42B4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C4F21-195D-43EE-A62E-C3CC7EE86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E6A07-4381-4E8B-B152-D446D9685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E0F43-C346-4AEC-9C95-A480FE2D7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7AFD1-A661-4CBC-8B4B-69216E38F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4A08F-CFC3-441D-B60B-EE99C4F3C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5EF84-AAFD-42FD-8B75-A291DEBD1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E57D9-77A7-4FAD-83C0-D5A90E373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D5361-CD28-4462-8DFA-181E0DCA4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C64A9-67D7-4AB2-B000-BD092891C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D21B2-CA6B-4125-9750-B71BFB530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C8FB5-5720-4562-9294-DD8F16F339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Fachübergreifendes Arbeit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114440" y="1981080"/>
            <a:ext cx="434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im mathematisch-naturwissen-schaftlichen Unterrich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071960" y="3029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IMG00001" descr=""/>
          <p:cNvPicPr/>
          <p:nvPr/>
        </p:nvPicPr>
        <p:blipFill>
          <a:blip r:embed="rId1"/>
          <a:stretch/>
        </p:blipFill>
        <p:spPr>
          <a:xfrm>
            <a:off x="685800" y="2514600"/>
            <a:ext cx="38098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Fachübergreifendes Arbeit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Fachübergreifendes Arbeit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Fachübergreifendes Arbeit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Fachübergreifendes Arbeit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Fachübergreifendes Arbeit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2925720"/>
            <a:ext cx="7467840" cy="22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ach als Referenzsystem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st für fachüberschreitendes Lernen absolut nötig,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ber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er Fachunterricht muss dafür in zweifacher Hinsicht geöffnet werde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Fachübergreifendes Arbeit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981080"/>
            <a:ext cx="8076960" cy="47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Lehrerinnen und Lehrer müssen den Zusammenhängen zwischen den Unterrichtsinhalten und dem Vorwissen der Lernenden verstärkt Aufmerksamkeit widmen, un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sie müssen Fragen aus der Erfahrungswelt der Schülerinnen und Schüler in den Unterricht einbeziehen und sich dabei der Komplexität lebensweltlicher Sachverhalte stelle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Fachübergreifendes Arbeit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33520" y="1981080"/>
            <a:ext cx="8305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1981080"/>
            <a:ext cx="7696440" cy="74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Für die Entfaltung fachübergreifenden Arbeitens im und vom Fachunterricht aus ergeben sich folgende Stufung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1.  Lehrerinnen und Lehrer müssen bei ihrer Unterrichtsplanung berücksichtigen, wie und was die SchülerInnen im Unterricht anderer Fächer lerne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2.  Im Fachunterricht werden Aspekte anderer disziplinärer Sichtweisen auf den Unterrichtsgegenstand aufgegriffen und die notwendige Vernetzung von Wissensbeständen für das Verstehen komplexer Problemfelder angesproche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Fachübergreifendes Arbeit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914400" y="2286000"/>
            <a:ext cx="7467480" cy="580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.  Die Lehrkräfte mehrerer Fächer stimmen die Planung ihres Unterrichts bei geeigneten Themen aufeinander ab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4.  Gemeinsame Planung einer thematisch bestimmten Unterrichtssequenz durch mehrere Lehrerinnen und Lehrer führt bis hin zu veränderten Organisations- und Arbeitsformen, wie Studien- und Projektphasen mit fachübergreifenden Themen und  Fragestellu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685800" y="2971800"/>
            <a:ext cx="8001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Organisatorische Rahmenbedingung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bhängig von Schulart und Jahrgangsstufe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etzen deutliche Grenzen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143000" y="83808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143000" y="1219320"/>
            <a:ext cx="6858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Fachübergreifendes Arbeit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Fachübergreifendes Arbeit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33520" y="1905120"/>
            <a:ext cx="8076960" cy="43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rste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erfordert die Vorbereitung eines umfangreichen fachübergreifenden Vorhabens einen beträchtlichen Planungsaufwand und ist mit einer höheren zeitlichen Belastung der Lehrkräfte verbunde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Zweite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fordert fachübergreifender Unterricht neben Planungskompetenz von den Lehrkräften ein hohes Maß an Fach- und Methodenkompetenz. In Hinblick auf die eng begrenzte Unterrichtszeit für mathematisch-naturwissenschaftlichen Unterricht ist fachübergreifender Unterricht nur mit diesem Anspruch begründbar und sinnvol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Fachübergreifendes Arbeit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Fachübergreifendes Arbeit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9T12:25:16Z</dcterms:created>
  <dc:creator>Sander</dc:creator>
  <dc:description/>
  <dc:language>en-US</dc:language>
  <cp:lastModifiedBy>Sander</cp:lastModifiedBy>
  <dcterms:modified xsi:type="dcterms:W3CDTF">2004-03-15T14:20:11Z</dcterms:modified>
  <cp:revision>28</cp:revision>
  <dc:subject/>
  <dc:title>PowerPoint-Präsentation</dc:title>
</cp:coreProperties>
</file>